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8AA-CEB4-4E2F-A872-7B4A93E0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427-87B4-414C-A326-B5147774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CA4-2CE7-4414-A0FB-651F24BD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443-5735-4D1E-840F-05111C11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C5F1-4B57-49D4-BA22-F9158A35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D380-20ED-4CEE-BD71-098FBC8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921-E788-4D96-B20F-B1B1BDE0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57F5-A695-4877-81EE-D669E21C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4B6-9460-4916-A22E-2825A92C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A51D-37D1-4E95-99C5-EFBB0B9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1D5C-6B12-435C-B182-96497BE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A38-77CE-4359-A101-FADEBEAF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CBE3-FD59-42FF-A008-C13ADB4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5311-AF85-42E9-8CF6-5D80E64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C1C-22A0-49B2-920B-5940ADB4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C553-70BA-4193-8444-BD727A62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549C-A8E9-43B2-B545-9F88F2A2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305-0A72-410F-A36B-FA22F53F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A80-BCCB-4D0F-99CA-86C53DEF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033-8386-4317-B5BE-F4A3EFB5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2B4-7716-4F46-977C-74343CFF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DA1-5F82-4AD5-9CCC-82356A1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131-392F-4509-AB6E-94BF8ED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24B-1F53-45D8-ACBD-E9E6333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7984-FF87-4BC6-A583-CD6C5BA4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FBEC-4CDD-4310-9615-8AAB356E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Indic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6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2209680"/>
          <a:ext cx="7772400" cy="4038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armers and others who have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long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mbers of producer organizations and community based organizations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that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133720"/>
          <a:ext cx="7772400" cy="41907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52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new technologies or management practices in one of the following phases of develop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s of Policies/Regulations/Administrative Procedures in each of the following stages of development…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ed and presented for public/stakeholder consul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d for legislation/dec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/ap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 for which implementation has beg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ublic-private partnerships form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438280"/>
          <a:ext cx="7772400" cy="3733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rural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vulnerable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ctares under improved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keholders implementing risk-reducing practices/actions to improve resilience to climate chang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incremental sal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per unit of land, kilogram, or animal of selecte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new private sector investment in the agriculture sector or food chai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 satisfaction with quantity, quality and timeliness of extension and input supply servic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5"/>
          <p:cNvSpPr/>
          <p:nvPr/>
        </p:nvSpPr>
        <p:spPr>
          <a:xfrm>
            <a:off x="685800" y="5867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Custom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4T09:06:33Z</dcterms:modified>
  <cp:revision>151</cp:revision>
  <dc:subject/>
  <dc:title>PowerPoint Presentation</dc:title>
</cp:coreProperties>
</file>